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D55D-F63F-422C-AA47-6FB3F6C8F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547F-9FF5-4CAF-BF54-9E551BCC8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5B57-25A8-4CFF-9DF0-5A74C1A61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2D08-9D9A-4C4B-AAAE-E0E99CD0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1EA9-1DEF-4CC8-9B79-E28D459A3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14D0-1874-470D-9B75-4E0F1947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540C-0FE2-4DE2-9977-4DE26FC5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D61C-D4F5-4CD8-8E70-A8A2B2D7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6F9EC-DC4A-4CF4-B97A-C2B476838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CC0F-3D52-4E52-8FEE-08E2E3BB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29C3-EE2F-4FC5-BAC8-B180AF7D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CEE-BEAD-48C1-8706-490A5A43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DA34-5542-4CF6-84B2-D032E704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F621-C605-438B-A1D4-0E0D9D1E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8B77F-1737-4F25-937B-A39ED08D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D4A1-B8B4-4A08-A787-160BADB2C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1B1A1-6302-4258-8A12-8A8DA2C2D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E5F7-5F8F-454E-BEB7-152F8FA8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02DC-246E-41FC-83C5-BBB94DB5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6F6F-BA69-41C3-9334-540DE9DA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20A3-A7FC-444D-90A6-9555276F7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8DD5-1B78-45B4-B30E-4792443A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1AB0-7C1F-4855-B744-206C2AFD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061A-E586-401C-9C6E-72058A4A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FD70-008A-4605-9D63-9BA4095198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6A05-17AF-4344-B435-730BC27716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ffffff"/>
                </a:solidFill>
                <a:latin typeface="Arial"/>
              </a:rPr>
              <a:t>Bir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ffffff"/>
                </a:solidFill>
                <a:latin typeface="Arial"/>
              </a:rPr>
              <a:t>South Afric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Bird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Bird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Bird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0:57:11Z</dcterms:created>
  <dc:creator>IT Manager</dc:creator>
  <dc:description/>
  <dc:language>en-US</dc:language>
  <cp:lastModifiedBy>IT Manager</cp:lastModifiedBy>
  <dcterms:modified xsi:type="dcterms:W3CDTF">2008-12-18T10:58:24Z</dcterms:modified>
  <cp:revision>1</cp:revision>
  <dc:subject/>
  <dc:title>Birds</dc:title>
</cp:coreProperties>
</file>